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17738"/>
        <c:axId val="43668935"/>
      </c:barChart>
      <c:catAx>
        <c:axId val="44217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68935"/>
        <c:crosses val="autoZero"/>
        <c:auto val="1"/>
        <c:lblAlgn val="ctr"/>
        <c:lblOffset val="100"/>
        <c:noMultiLvlLbl val="0"/>
      </c:catAx>
      <c:valAx>
        <c:axId val="43668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17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547-EF59-4EBA-90FA-D246D671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40C-A8B9-47E6-9F66-E7D519E4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174-2258-4047-8D41-472ADBAE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72C-52F7-4457-AC2E-ACFB306E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F9F-3DA1-4ED3-842E-46F0A624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29C-2C6A-4605-B8E1-2F9295F4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48C-9108-4C5B-9D0B-5C66F929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9A4-1B8B-44EC-9B01-5F7EB55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B2D-21F3-46BF-A216-40F5BE20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8E6-606D-4E11-8DED-E38F4CC7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D89-87D9-40E9-A63F-603C9713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5B3-83DC-4711-B96F-1E8DEFDE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7BFAB-0A59-462F-86FF-B8989779C4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