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29539"/>
        <c:axId val="6754871"/>
      </c:barChart>
      <c:catAx>
        <c:axId val="848295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54871"/>
        <c:crosses val="autoZero"/>
        <c:auto val="1"/>
        <c:lblAlgn val="ctr"/>
        <c:lblOffset val="100"/>
        <c:noMultiLvlLbl val="0"/>
      </c:catAx>
      <c:valAx>
        <c:axId val="67548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295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9348-80F2-40AA-B691-38D6DA40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043-5B7D-4677-9E55-99F9A3A8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BC6F-35CC-4937-BFE0-6AB395361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7E0-8A10-46CF-B46C-0B920EA4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F8DB-AA5E-4642-B301-9861C242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E57B-3BB4-4638-A20F-2CF70596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EEA-5AB2-4C71-8D60-CD53B113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D25-643F-4AE0-A176-C87CC8A9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D4D-8687-40B1-8CA7-4B5E7DEE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F57-4366-4AFC-A309-AAF79C78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CB12-F34F-412C-8F97-7E944560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2228-22B1-49CB-B1A2-AA7D3C7E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BD71D-4715-4A8A-8708-AC2B6392E6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