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703884"/>
        <c:axId val="46445091"/>
      </c:barChart>
      <c:catAx>
        <c:axId val="21703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45091"/>
        <c:crosses val="autoZero"/>
        <c:auto val="1"/>
        <c:lblAlgn val="ctr"/>
        <c:lblOffset val="100"/>
        <c:noMultiLvlLbl val="0"/>
      </c:catAx>
      <c:valAx>
        <c:axId val="464450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703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5F7F-5B5D-4C86-B63C-C4558075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EDB-D24A-4B34-80E5-E7A35DD7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DED-7495-4F72-AB2E-BE921A79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B55-B827-491D-8BA1-BB275A7FD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64D1-81CA-41C0-88FB-882FCCAD2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26D6-989B-44D3-BD0E-091E74EB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4DF-FB65-4DE6-8AAA-09D66337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6AA-7A3A-4200-824B-79E9569E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05CC-8FB1-43DB-BC62-E5B21069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BB6-8638-465C-B46E-98836685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255-F577-4B82-8DE2-92252821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63F-CD31-4ADD-9112-8664E5E4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D3097-8F51-4475-82B9-CE7B3382AF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