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53945"/>
        <c:axId val="56048073"/>
      </c:barChart>
      <c:catAx>
        <c:axId val="15653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48073"/>
        <c:crosses val="autoZero"/>
        <c:auto val="1"/>
        <c:lblAlgn val="ctr"/>
        <c:lblOffset val="100"/>
        <c:noMultiLvlLbl val="0"/>
      </c:catAx>
      <c:valAx>
        <c:axId val="56048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53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78B-11F5-4CC5-9C39-EB85A874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C32-7FC1-46E6-BAFC-2ECA83DC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4F9-803C-4965-B5EE-B5EC4BEB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5E8-AC94-40C5-9D8C-00612B55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B61-E64C-476B-8B14-9445EC65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74A-CA63-44FC-B885-45EF03F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F2E-FE92-4748-8373-BFBFFBE1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342-845D-4075-942D-EBB314D5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5FF-AABC-4925-87F4-EDC573DD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643-FE47-4328-9466-3861B0D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8D5-1F70-45C3-B450-300672A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3C8-8A95-499A-B18D-8DBFF2EA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CAF13-85E7-4A0E-B767-67A71A4F0E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