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16547"/>
        <c:axId val="30904817"/>
      </c:barChart>
      <c:catAx>
        <c:axId val="13216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4817"/>
        <c:crosses val="autoZero"/>
        <c:auto val="1"/>
        <c:lblAlgn val="ctr"/>
        <c:lblOffset val="100"/>
        <c:noMultiLvlLbl val="0"/>
      </c:catAx>
      <c:valAx>
        <c:axId val="30904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16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826-3DB3-4A92-956E-9186DC9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884-207A-4FD5-9EAE-DB978868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728-D6CF-484A-AA6E-7410DFFD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903-18AF-488E-A0EF-3A1A045E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813-69B4-4799-98CE-ACC169B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C6B-59FA-4C2F-A45D-3371B59D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F9A-1098-476B-98BE-B77BA85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48F-7E05-4AD2-B096-F9F6E2CB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21A-4F34-47F4-837F-BEF5D21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B66-639C-432B-BB2B-FD85078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723-42D4-41F9-9D21-8F42EC2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E17-74DC-4DC9-B7D9-A498802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CDE6C-EF25-4686-BBC0-3B3227FA1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