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29855"/>
        <c:axId val="67358842"/>
      </c:barChart>
      <c:catAx>
        <c:axId val="52129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58842"/>
        <c:crosses val="autoZero"/>
        <c:auto val="1"/>
        <c:lblAlgn val="ctr"/>
        <c:lblOffset val="100"/>
        <c:noMultiLvlLbl val="0"/>
      </c:catAx>
      <c:valAx>
        <c:axId val="67358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29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966-B018-43BC-B8D7-866F117C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3D3-07A2-44AE-BBF2-67E62FD2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8B2-28BC-401F-B1A9-FFC9D28C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8BB-9D50-4D57-A587-778F48F3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AE2-D910-4234-9847-999D18C6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3C9-F306-49D4-B76D-702992A6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48C-FEF3-43F6-9294-032AF768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4FB-CCC9-4CC2-A368-A4E29ABB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ACC-913B-4432-AFB5-14F01F08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5763-E7B7-4304-BB80-BC289995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6CCE-4FE3-4226-85C8-66AE69F2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0E0-2AA6-483B-97B0-B85DE77D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8349A-5C91-4B75-81F5-CE077702B6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