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29484"/>
        <c:axId val="19581929"/>
      </c:barChart>
      <c:catAx>
        <c:axId val="54029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81929"/>
        <c:crosses val="autoZero"/>
        <c:auto val="1"/>
        <c:lblAlgn val="ctr"/>
        <c:lblOffset val="100"/>
        <c:noMultiLvlLbl val="0"/>
      </c:catAx>
      <c:valAx>
        <c:axId val="19581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29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440-D53B-4167-A3A8-9554BE21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DDA-1854-4102-B50D-2AE70F24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690-4BEA-40D1-B5BB-3B64B6B4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98F-3774-4FA6-8F18-8CE1342E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ACE-7F20-449A-BE71-E967767E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998-2D36-404B-B42E-C87C7EDE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694-0045-43DE-88DE-9D0BDFE8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4AB-7AC8-497E-974C-1C8339DF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E27-ED74-43E2-BBBB-64C2073A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EE9-48FF-4D10-9B41-42B00D86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98D-A81E-48B7-BEBF-C225468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37C-01F9-46A5-AE65-0599208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D072F-AD5E-4529-AA86-135E2CE357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