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195915"/>
        <c:axId val="12596658"/>
      </c:barChart>
      <c:catAx>
        <c:axId val="771959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596658"/>
        <c:crosses val="autoZero"/>
        <c:auto val="1"/>
        <c:lblAlgn val="ctr"/>
        <c:lblOffset val="100"/>
        <c:noMultiLvlLbl val="0"/>
      </c:catAx>
      <c:valAx>
        <c:axId val="125966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1959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4107-8401-4A19-836C-B58250C9B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E3C1-A544-4AEE-8D53-BD298AFB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FD4F-6FAF-4D1A-96BB-C2EE74A09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6BBD-0BD0-44E1-B12D-10E19B9B2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2550-3DA7-4EA2-AE56-E04B1633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98AD-75A5-427D-8392-3A905680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EA57-46A4-40E0-9936-89662806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A94C-ECEE-4629-AD92-9B8EDC11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DD15-AEBB-4B76-9124-C14A5256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D384-737B-4564-B417-1F3CD7A5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AF68-D324-4566-B48C-EC308DCE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D713-6A1E-4105-903F-AAC86295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5A1DFF-FB59-4426-A1F9-00F7596A78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